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DCEA-E528-496C-ABA6-5D8A61714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66"/>
                </a:solidFill>
                <a:latin typeface="Arial"/>
              </a:rPr>
              <a:t>Odd little man who feared women, hated his wife, and had to ask Queen Victoria and Prince Albert of England what to do on his wedding 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66"/>
                </a:solidFill>
                <a:latin typeface="Arial"/>
              </a:rPr>
              <a:t>Later wrote a letter to Albert thanking him for his “…wise and practical advice, … [which] has now borne fruit.”  (His wife was pregna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66"/>
                </a:solidFill>
                <a:latin typeface="Arial"/>
              </a:rPr>
              <a:t>Hated his small country.  Referred to his country as a country of “…small size and small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2E95-82C7-4F76-8BE1-132C7AE8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30C-AF32-4EC7-88C6-DBB8C464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795-A57A-4761-B38E-87759814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11F-020F-426A-92E3-CEE8D2D3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ACF4-81EC-4649-9E1B-ACC4CBA6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41D6-F6B7-4AE4-AE97-8398A891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0B3A-6E69-4354-8B60-CE02F36B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FDF9-E059-4FD9-9C94-0E8F14C1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F561-B585-4948-997E-83A527C4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B0E1-ABCE-4F79-9F79-7F7C6A3E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B1B6-C9A4-4A1A-A32C-4BFE2205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7D92-BCD4-4E42-9344-C0F96689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1D79-39BD-40FA-9616-07CCAAD2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FBF1-E12D-4A26-8592-F55112E5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DFC9-9BB8-4F1B-B3D2-751616AD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FB7D-6B9F-4F5F-810B-A80E579A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6254-1931-4F33-A051-C7CB5055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676F6-82FC-40A1-BC4D-39B5412E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DEB30-5C7A-4330-A93C-6EDE2F41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53A7-4D82-4CAB-94D8-7FC2FBAE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57380-4C08-48CE-BAC9-995A6E86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37BAB-51FD-40BA-A12D-76BA88A8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61D-7F5F-4494-8A9E-1BB4B95C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28FEB-47EA-43E1-9B9C-0E35917B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E6937-FF69-4C22-BD68-C3657817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87169-D8C9-4675-A286-E25E1542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7CE75-5F15-4FDA-9BAA-A2CBAA7D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330BB-CAE0-4008-8E78-A7C84067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0BF6-F1DA-496F-A539-584E9A51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67045-78D5-49F2-9F6A-5561AF76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F50-FA44-48A2-86B8-7935DB06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651-3275-4C3E-A185-1DE13456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BE6-48B7-46D2-BFC7-25B11B0C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2B1-31ED-407B-BA1C-B7EE3F8E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C06-96F8-45CB-B8AA-AFFED641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E31-CE07-438A-9A8D-35127A27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434A-9873-491F-8B24-FB8B383BB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32F3-D8F6-4E53-BF98-31194F588C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7627-14A9-4C03-B1D6-4EAB39318CE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ecff"/>
                </a:solidFill>
                <a:uFillTx/>
                <a:latin typeface="Albertus Medium"/>
              </a:rPr>
              <a:t>The Congo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Background Information for 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Heart of Darkne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343400" y="457200"/>
            <a:ext cx="4222800" cy="612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he Congo Free Stat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ability to use the river to gain access to the ivory and rubber rich interior made the Congo a coveted area for coloniz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 European nations negotiated and agreed to respect each others’ claims to African territory, Leopold made his claim for the Cong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6400800" cy="35686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52480" y="31240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Arial"/>
              </a:rPr>
              <a:t>The Berlin Conference, 1884-188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he Congo Free Stat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62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opold sent the famous explorer of Africa, Henry Morton Stanley, to negotiate treaties with the nativ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ative chiefs were offered trinkets or cloth if they would place an X on a document in foreign tongu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800600" y="1295280"/>
            <a:ext cx="380988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he Congo Free Stat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se treaties, along with Leopold’s assurances that his goal was to end the practice of slavery, and a promise that the Congo would remain a free trade area, led the European countries to recognize Leopold’s claim to the territory in 1885.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495680" y="3733920"/>
            <a:ext cx="4343400" cy="2611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3733920"/>
            <a:ext cx="40384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colony “belonged” not to Belgium, but to Leopold personally, making him the only individual to ever colonize a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The Congo Free Stat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:</a:t>
            </a:r>
            <a:br>
              <a:rPr sz="4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“The Profit Imperative”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r the first few years of Leopold’s rule his colony did not turn a profi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oon the idea of free trade was abandoned and the natives could only trade with Leopold’s representatives, with 50% of the profits going to Leopold himself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 order to up the profits it became necessary to make use of cheap labor (gathering rubber is very labor intensive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opold drove the slave traders out of the country, which he portrayed as a great humanitarian act.  In reality, however, he did it to gain control of the reg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e then paid his ‘agents’ in the country a percentage of the profits, encouraging them to make the trade more and more profitab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e also authorized the use of as much force as was deemed necessar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he Congo Free Stat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:</a:t>
            </a:r>
            <a:br>
              <a:rPr sz="4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“The Profit Imper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he Congo Free Stat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gents ‘encouraged’ young men to work by holding their wives and children captive until each man’s quota was m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y who resisted were killed on the spo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thers were beaten with cruel whips called chicotte, made from dried hippo hide with sharp edg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3524400" cy="2162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3276720" cy="27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he Congo Free Stat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oon a revolt broke out due to the cruel conditions and slave labo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Leopold sent his troops into the villages to exterminate the young m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To make sure bullets weren’t wasted the soldiers were expected to return with the severed right hands of those they killed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he Congo Free Stat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ften, however, the soldiers could not meet quotas, or had to justify bullets spent on hunting, and so would cut the hands off of living women and childre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uring the years from 1895-1908 it is estimated that 8-10 million people died due to murder, mistreatment and starv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1960560" y="3417840"/>
            <a:ext cx="502920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Human Rights Move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ublic pressure eventually forced Leopold to sell the Congo Free State to the Belgian government.  It became The Belgian Congo in 190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04560" y="220932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Belgian Government ended the worst of the atrocities, but still controlled the fate of the African natives “For their own good.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African natives were never consulted about their fu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4800600" cy="35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eria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erialism: The policy of extending a nation's authority by territorial acquisition or by the establishment of economic and political hegemony (the predominant influence, as of a state, region, or group, over another or others) over other nations. Includes the system, policies, or practices of such a governm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bbery with violence, aggravated murder on a great scale.”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Heart of Darkness, page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7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ick 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What you should know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Geography-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Including location, natural resources and natural features of the are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Pre-Colonial History-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Life before Europe’s takeov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The Congo Free State-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What King Leopold and his agents did to make his personal colony profit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inental Contex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5229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343400" y="3505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Congo Ri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1. Geograph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257440" y="990720"/>
            <a:ext cx="2895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main geographic feature is the Congo Riv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fth longest river in the wor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105520" y="3657600"/>
            <a:ext cx="4038480" cy="2432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50292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Geograph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492264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river was of vital interest to European powers because it and its tributaries represented a 7,000 mile series of connected waterways, a highway to the African interi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477120" y="1600200"/>
            <a:ext cx="2666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4920" y="812880"/>
            <a:ext cx="6400800" cy="39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8600" y="1330200"/>
            <a:ext cx="8686800" cy="4197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89280" y="5675400"/>
            <a:ext cx="489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57150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go River Vill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77920"/>
            <a:ext cx="82296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Geograph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2. Pre-Colonial Congo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Kingdom of the Congo (Kong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ccording to Portuguese explorers the kingdom was a sophisticated and well run state, an imperial fed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nown for advanced working in copper and ir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ich in ivory and rubb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807080" y="1981080"/>
            <a:ext cx="4336920" cy="5562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72000" y="1295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 Vunda, Kongolese ambassador to the Vatican, 16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Pre-Colonial Cong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laver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lavery was part of the culture of the Cong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iginally slaves were captured during warfare, were criminals, or were debtors who could earn back their freed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ventually, Muslim slave traders began to sell their slaves to European traders for export to the Americ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5257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3. The Congo Free Stat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791320" y="304920"/>
            <a:ext cx="2709720" cy="4114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2819520" cy="4191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962520" y="47242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opold 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835-1909), King of Belgium from 1865 to 1909, infamous founder of the Congo Free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7:23:25Z</dcterms:created>
  <dc:creator>teacher</dc:creator>
  <dc:description/>
  <dc:language>en-US</dc:language>
  <cp:lastModifiedBy>Information Systems</cp:lastModifiedBy>
  <dcterms:modified xsi:type="dcterms:W3CDTF">2007-01-10T22:46:56Z</dcterms:modified>
  <cp:revision>102</cp:revision>
  <dc:subject/>
  <dc:title>King Leopold and the Congo Free St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ebpage">
    <vt:lpwstr>0</vt:lpwstr>
  </property>
</Properties>
</file>